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305-9140-4437-B208-7E9DBB94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213-E242-41AD-AB5E-6B64EBFA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3AA02-6875-434C-B61E-EF58DE34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3ADA7-D9C6-438F-8B2A-1FBD6FCF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B7488-D0A6-4B8D-97E0-F7CB6C1D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D54BC-284C-4B37-A1D9-68AE4FD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42FFC-CB0F-4998-9F05-27BEC23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6ECA5-30B9-4B3D-A75C-B9C02B2C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F8F1B-B2C7-4157-9F18-38E318FD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F0D92-BA9B-4B5D-A471-3D64D025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80E79-F972-4E12-956B-5EC69F48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F0DEA-5975-4F0E-B7D0-D3C42ACF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37A-1E85-4B69-99E7-35D2BFEE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11A6A-BC7B-4AD5-8885-CF342275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96408-FD7C-480A-978B-031D7C13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7C2D8-3636-4104-BBDD-CDF03C72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10493-B711-4962-B6EE-E2C6D31F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F6555-628E-408F-8461-5FE07759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08364-D8D3-4FB5-87F0-EE0BD45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CA9BA-7AA4-48E1-901D-86A460A2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3444C-7E3C-4E79-8326-1414715F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ED25D-6892-4F02-A5CD-7F60E262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4074A-5129-48A6-9723-140433F3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B14-F9D8-427E-9765-70EDC574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A0354-82A8-4C10-AC73-55CD5022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234BB-BF38-40A1-99E3-FDC4B64F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6DFCF-AD30-4FAE-897C-088E0A65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98AFE-76A0-4BDB-8355-D3BB472C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50D85-387A-4485-BCEC-FB52EED0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87814-F0E2-481B-BDE9-5E194AED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8664A-6C6D-41F6-8A1C-4A5A08D1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76F5-BEFD-4211-A8B3-9116D0CF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17816-CA98-4B23-9042-6AE4EED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82961-9E54-48F0-9126-FBA9504A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2F22-E2AD-4EF2-B90F-FEF7A485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093E1-3659-4C19-B59B-10F31905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3A51E-A98A-4353-A83B-9295CB72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5D0D4-D8E5-4DE3-9B4A-AABBFF59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9026F-F435-4FD2-A33C-C32693ED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D39DB-BDAC-493F-8B3C-41F5AE1B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4B440-CB3E-4184-8C1C-B81406AC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8CD84-F352-43B0-801C-F3005299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A118E-25AA-4C2C-A67F-7CF88130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0063B-CE86-429D-A7AF-78EFE0B9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EA3CC-D168-482E-87DC-D0F1FD6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B276-6A1B-4952-8B19-545B2651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76F70-BA33-4DCD-89CE-B81E5269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A458C-C285-4D0A-8DC5-5112763A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4E3E5-9873-480B-B6BA-464BE9E2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6BB5C-A3A3-4B9B-BBD4-B6C85A96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BF6ED-C403-4A93-9301-8A98A398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009A0-65E2-4AF8-8B5D-B8161359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04480-4BC1-45BA-9358-A73CCE7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5F8F8-EDAB-414A-BF37-198D1A1A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D95C8-C276-439C-8648-3D0F90B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5603A-9019-4CC3-8715-236FFDD8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4206-6083-403B-8DEA-B44418BD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F041C-14AB-4F1C-A96F-CC2F3977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3841B-0688-4FB2-9AD4-3710DF9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3F576-C798-4E34-A16C-1C8F8A00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7122F-1350-4FA0-A540-B2F78A58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50776-CFE2-4E04-AED5-159B2222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E0235-9961-40E6-BF7F-2D5AF475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8F140-72D8-451F-8EEB-B4E01617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920C8-0D8D-47B5-B2BC-9EF9EA86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2A9B8-A169-4500-A9B8-0912642B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3E0E9-9E3B-4D69-A982-3EC7CE6F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D06B-19A2-4432-8196-C7FA0A9E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A9E1B-F14A-48D7-BC29-D6AE5945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959BB-5D06-433C-B613-14A42FA7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924AF-D759-4069-B9AC-570378BD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12E96-633E-468B-AEB0-34E249F2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AD927-69C5-4C69-8ABF-1E85B089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BEF8A-9623-42F5-970C-3FB087C6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10C8D-0ADA-4365-892C-5EA1B4BC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5BA5B-8153-4A11-A427-9B5C2CAA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7F098-CE89-4FA9-AEC8-164567DB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0098B-EC8D-4EA3-8B0E-1B1117D2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26B2-A4BF-40C7-8F4A-451B38A4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A316F-D81F-4697-ABD2-4D40E7A3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25212-BE39-4C0A-8312-073B81C5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DED62-C5F3-4D9A-A1DD-8B0CD7CB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4BE79-C04C-4723-82D0-1B2550B4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1543F-6CA9-40A3-9C1E-5E5481CD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AFEBE-7A4B-4AEC-94D5-001B4722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E6D06-6A61-43BF-92AE-19EDC40F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82D612-3D06-4AC8-AAE8-1B55F618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74CE0-6A6B-4C1A-89D6-44F82846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A5793-E6CA-4DF8-A696-6427C303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FF2C-CE44-4714-86CA-284BA4E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4E7BC-9C93-411A-810E-E3B7C0B6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BB551-67DA-499B-8E34-CADC4265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F6DD4-B0A6-4D3B-9955-6867EADB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2CC53-C0DB-4F37-8794-C26E764C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67A48-422A-4879-ACAB-8E1C0ADB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E631A4-65DA-4055-9D01-34912561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7AE6C-3F48-4A20-8E1B-89CFB74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05856-91FA-4C8E-93B6-93D49F43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8DA3E-6422-48AD-BE16-4643A5B4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F9B54-A230-4D0E-B8C0-E751D65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E69F-9EAA-452C-8EFE-3041347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9FDB8-0D93-47D1-9DAB-F9CEFA98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7F4DA-E76E-4A10-AE5D-A6BD408F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BC37A-15FC-42AB-855D-F721197A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32CBD-FA25-4B6D-8736-0F55B058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37EC8-2D26-4A37-946C-661AE96D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E6C08-EBA7-4FB7-A4B8-1966CE73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996B4-DCA7-49CC-BCCB-009D2A64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C2F50-76B2-4144-A6FD-8CC25270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60308-A411-48A0-92FF-3837E7E8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50726-7125-47F1-AF5D-3FE056FE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07D-435F-4F7E-9C6E-5E159D8C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BFD0-4575-4D40-8AD0-85F072DD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148B5-D131-4ACA-9857-E576A927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6A4C1-0638-47B0-B1B8-50B90F31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0111E-EE29-4D2C-8A4E-E96A016A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5738B-D30E-4436-B910-44CF8C13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55BEF-0B9F-41D5-BDF1-D94DB587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D9F02-4C94-45A9-8438-F29BDE44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31BD9-9D19-416C-B346-EA7C988E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BEBBE2-8F14-44FE-A5F1-EEA8AA42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D900A-E432-4C11-875B-7AA45DA9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4F8FB-1030-4424-96C1-2F584D5D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F08E-40B6-4763-93F3-280C3A2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FF416-F10D-41F2-9F4F-D2C2BF4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8F9BE-E2F7-4F00-A7F8-8D347C1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DFBCF-BB00-4C8E-B1C9-9FA0F0D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2EE88-CC51-4F4D-949D-11B6B71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9A49A7-96EF-4A82-988A-F7EE7369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DCCE0-55B7-45A5-B799-61718173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DC967-6F03-4EAA-8E86-B97C31E3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D4DC9-368D-43C1-8091-25A1A485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9DFACF-7F2B-44C5-9B07-EBCF2E53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C9540-FD11-42A9-941B-ECEE5C19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E4DF-7D80-4A36-AD29-782B93A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FEF44-C320-4E3E-B3BB-63CB78AC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E58EC-4821-4CB9-9693-E5F83876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9520F-0BA0-428A-B9C9-0EFD76A1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141C3-7391-4898-885B-E9B204B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9DD61-D202-4479-B361-DAA35C6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4E7A0-4E39-4D96-825F-C66C3B32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4299C3-3B00-42F7-B3FB-8581E6A0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3A1188-DABA-476F-8368-6F231D41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2C358-8415-45B4-8615-CB7B73F7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8FF46A-9B91-4395-895E-1B20B543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F517-8A36-468E-9593-559CDCD7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A5A27-DB3E-4626-B8A2-60C640A4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0526C-93B5-4C91-BD58-6294816D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06286-8B2F-4920-AC17-5661AB2A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5DD8D-3428-4294-B36A-275FE7E2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16E880-EB87-40BB-BBEF-C9F45278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4963F-98B4-4AD9-96B6-CD1E38E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A2858-0BFB-4D33-8B92-7C6D264E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D36024-BB0C-4C01-A45E-7154432E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2AD43-065F-4F35-A51F-AE86185F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31971-4349-4C3E-9F77-7CCFDC6E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2283-E6C9-4B5B-B358-D93A8A85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88531-C416-4E1B-9B1F-1BB10B94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787E0-2389-488B-8D67-685C2117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FE4B0-FF71-48D2-BD31-732C7FE9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89F41C-DCC0-4BB5-8E97-74B61AC7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AEB07D-053D-4E2B-8183-8B7B9C41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0EA51F-9EE9-4DE7-8F70-35CCB98C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B9C5A1-4966-4E71-A3A4-4BDA822C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A3035-5175-4205-A5AF-38E518CC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E29C0A-059A-44CA-A38B-07907839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BCC384-4C8D-4CB0-87D7-6E9781D9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53A87-4BA3-4196-BA26-0A1B1543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C0C790-AE7C-4413-BEB5-B5F1F430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53257-96A3-4BA9-B81D-AD5FE5F4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BDE787-D599-4030-893B-DFF9253A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0288-D0E9-459E-B53D-44FD8433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A9B4D-9266-4544-BEFF-986E44EB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8A6E-4B37-475D-A6BF-9FD38901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651C-A747-4319-88E7-FAFE205F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BC2-0AC5-4E15-8544-4BEB2BCD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25BF-E5F2-4E43-B24C-75E72091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7E5D-936C-459E-9019-0040ADD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049D-6986-48E8-9777-A01ABD9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1789-AD0B-4A0C-9E11-B11F5EA1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EE9B-4BD5-4D3A-84F0-62962A9E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12FE-4CB9-4653-B717-CAB5D615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D615-446A-41FD-B6A3-903CD21F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DAE5-5A1C-41C7-8A8A-F31873D4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D86D-65FF-4CC7-A9AA-524D7201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7C44-C90A-46D6-8E48-4024EA62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4A3-DF1A-4239-9AC1-E8901C5B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D923-D16B-4171-8ACB-5AE96EBB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D93B-EE40-41CA-849E-0849401A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6BE4-22E3-410A-A53D-82674AB8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DFC3-1E66-42C9-915B-69791CF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8C30-404F-48F5-85EA-BAFD2213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71A7-AFD3-4B56-B500-604482B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7CB9E-771B-40C2-886D-B847DA7A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07A3-BFE4-44C4-943A-69497D7C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5AD6-4498-4D3E-85D0-D24F5BD9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FC1BC-468B-445B-A4BD-F77C5A31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4B0-DC46-4FF4-A867-04927C0F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0EE17-0C5E-4F73-884A-CAB31718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ECACC-BDD2-4CDE-BEEE-7C034B3A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B2F3A-2C34-4438-874D-A36AA3A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AEE3F-9838-4B6C-A598-3D113CD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F683D-9CBC-454B-A4B4-CBD715D0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4B925-2E92-4992-AC31-04775EC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E100-3FF9-439E-93A3-660F8F5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DB056-ED51-4E83-AE41-7F1C3368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F272-1B21-444B-9F1B-7C98D1D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23BEC-54E6-4D01-AC10-F775112C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B11-7A1D-49D9-B79A-EC3D3783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B6189-B04C-4FBA-B8F1-8198C712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DE4D6-864A-4355-9414-04777D62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ED5CB-F9C7-4596-BF8A-E1A74408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57B18-8E51-4C06-AD8B-45C509AB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77F09-C2CB-4A75-B63F-50AD59A9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9CD3-C0DA-460B-B12E-F5BDA0FA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3C07C-90C3-4486-81A8-EA97875A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FE3D4-0976-41FA-B893-22E26F2E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51063-0879-448C-AAD6-4ACC2B69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0895-96CB-44E3-B3B1-2AB86CE6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8D6-15B9-4EDD-97C1-8D4B346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FC353-3E9A-4AF9-BE2A-8B599533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520F1-FF2B-4D36-8F8C-A99C06BF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6FE51-5B4E-4ECA-9515-A0B5927E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C1EDA-8B94-41BB-AA98-33DF555E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FA8CA-A47D-4D57-B874-2DD23138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F7839-F401-4F71-A4F2-0082CB8D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886C7-8692-42C1-9956-C81F7315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4EDA2-BB7A-41B2-9C7E-1F929E4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A899-BE2A-43B6-B355-C993CFFA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39468-9EB4-4149-9489-0B5443FA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F9A-D1CF-4AD2-A787-EAFA4E4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E6F4-8D3F-4FE0-992D-802C45A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C1643-C9BA-4F7D-A77B-6278C4AB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A4849-E4AA-4314-9F0D-886CFC51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BF63C-444A-408F-8305-C8018957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D698A-E6FF-4D53-9715-8DAC5D1B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6B4A2-8039-482F-88D6-BFB1DAF7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3710E-E2B7-4F74-ABD1-3D23027F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177A3-B531-446F-AF9E-559579FC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7A42B-A1D9-41DF-BE83-8045CED9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B887E-FF6B-4006-B1DA-194319A9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15C-732F-4F34-82F9-1D34AC2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6B950-2683-4702-9C08-E48E696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48FB9-222A-4DE8-BEA5-9E4B99F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89602-CCF5-4F84-B892-58B0CCC5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DAE88-44B1-4505-9A45-8A7FAC29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25B67-6DCB-4585-A9C0-54F2CDC0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46F13-E0B9-45C5-AD57-4995B6CF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17C4E-726D-45E6-BAD0-B1AB6D1F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3ACB1-49E5-499C-B7F3-7A06BB76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33249-00C1-4FAD-AFA2-3C2D9874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D7F3C-A006-4E59-AE7A-4456062A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5902-3A0E-4C82-9446-592024C64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A2F5-96D6-4DEF-9099-CC2C3EBC59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4602-D91F-468A-9D4D-FA8E751E7A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CE79-8E1A-44DE-8026-27795A51A7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F19C-AD0F-446C-9637-15E7164E1C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5493-D861-44B7-B5F5-A10D2FDA77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68C0-6163-407F-B5BF-C290D2756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931B-72A8-48DE-8799-C5D7F24B69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F803-2D76-4AFF-803E-5C8C6BAE1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A648-7800-4E53-8BB7-5A379A9BB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D06B-97ED-4F9D-AC56-D1C8CD413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C4CD-8309-45E4-9796-9FE36FAAAC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BBBA-52F6-4E5C-A32B-AAFBFAABD9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4B0A-4861-49D5-8B04-7C02A4CF33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F94F-43A5-40FC-9FB0-11272B62D3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9CCD-C065-446A-9742-0D98DC776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C4FD-2505-4CDF-A5A6-C01CAF96FD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2B74-02A2-4C6A-90AB-ECFB60E22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D61E-C868-438B-8EAC-1FAE4B810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DA3-C853-4ED6-A180-1D4832C393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E957-899E-464D-A4DF-458111EE8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4F03-E4A2-4719-A95B-90A966AB7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18E9-A6B0-49E8-A47C-BC03F63D13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652A-DF11-4D4A-9700-AEE8034E6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8362-A9CB-48AF-B279-37AF2AAF96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4B3-B635-4301-AA81-4D7971269A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D7CB-E57E-4A28-B13F-8BE6BA05F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AAA-1C2A-4367-A7D4-0AE7D793B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1E5E-2E3E-43BA-B352-AA0BF574B1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C080-847A-4375-8F0C-A9B183E53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5693-8E01-47E0-B290-59753688F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B216-AFC1-4B87-B3AB-1FD4E0EBF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FDEE-1AA8-401D-8808-666182640D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3A08-2D47-41A2-A851-9034976834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86C3-E875-4BE0-B63E-84171B9BC8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A2F1-A5CD-4E33-B637-1331FE979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344E-AB33-4D17-A2BF-10192B1868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612B-A8F7-4C0E-9FED-9902D0793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704-CADC-44A6-8988-3FB3A3F77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1E95-18F7-4352-9926-1B06ED3D2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58680" y="3105000"/>
            <a:ext cx="9026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385920" y="942840"/>
            <a:ext cx="8370720" cy="4972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332000" y="15415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33200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332000" y="4581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52280" y="1585800"/>
            <a:ext cx="8839440" cy="3686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04760" y="843120"/>
            <a:ext cx="8934480" cy="5171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042920" y="3471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042920" y="50277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857160" y="2938320"/>
            <a:ext cx="7429680" cy="981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176040" y="2419200"/>
            <a:ext cx="8790120" cy="20196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8194" descr=""/>
          <p:cNvPicPr/>
          <p:nvPr/>
        </p:nvPicPr>
        <p:blipFill>
          <a:blip r:embed="rId2"/>
          <a:stretch/>
        </p:blipFill>
        <p:spPr>
          <a:xfrm>
            <a:off x="770040" y="3833640"/>
            <a:ext cx="819468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2:25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